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4D5C-D44A-4709-A9D7-17A39144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8B56-5675-4181-8205-D04875B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6F22-28DF-4F9E-94BD-BED33FA3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490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34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490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34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4E98-7673-4504-9EC8-53DF6A50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04760" y="3805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F69C-5506-442C-9086-2086CC6E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490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34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47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490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34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5DAA-74FC-474B-BF50-E463A8C0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F328-5275-4180-A17D-D2D63E80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68CB-26B2-4BCA-B9AF-66868A4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3805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87A9-3AC0-4203-81E7-6794FAF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1306-60C3-4CAC-81AC-52E2D03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79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47D2-8FD7-4DF1-BA98-E9D972C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79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61D6-686C-4161-9E24-A6280F8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24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02E-2B41-47AB-BF0D-F4442709C70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457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a/Inflation-1923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19720" y="457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9.4 Wilson fights for Peac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495320" y="48006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The Treaty of Versailles and the League of Nations are crea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europe outline map"/>
          <p:cNvPicPr/>
          <p:nvPr/>
        </p:nvPicPr>
        <p:blipFill>
          <a:blip r:embed="rId1"/>
          <a:stretch/>
        </p:blipFill>
        <p:spPr>
          <a:xfrm>
            <a:off x="1328760" y="219240"/>
            <a:ext cx="6486480" cy="64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248C-DED4-4BAA-8141-03A4B6D695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Wilson’s “</a:t>
            </a:r>
            <a:r>
              <a:rPr b="0" i="1" lang="en-US" sz="4400" spc="-1" strike="noStrike">
                <a:solidFill>
                  <a:srgbClr val="336699"/>
                </a:solidFill>
                <a:latin typeface="Arial"/>
              </a:rPr>
              <a:t>14 Points”</a:t>
            </a:r>
            <a:br>
              <a:rPr sz="4400"/>
            </a:b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esident Wilson’s peace plan)</a:t>
            </a:r>
            <a:br>
              <a:rPr sz="2000"/>
            </a:b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.  1</a:t>
            </a:r>
            <a:r>
              <a:rPr b="0" lang="en-US" sz="2800" spc="-1" strike="noStrike" baseline="30000">
                <a:solidFill>
                  <a:srgbClr val="3366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five poin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ddressed causes of the w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pen agreem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reedom of se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wered tariff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duce arm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sider colonial subjects re: polic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2.  2</a:t>
            </a:r>
            <a:r>
              <a:rPr b="0" lang="en-US" sz="28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eight points addressed boundary changes/ethn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3.  14</a:t>
            </a:r>
            <a:r>
              <a:rPr b="0" lang="en-US" sz="28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poi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League of Nations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6B4C-20AB-4B77-8585-D3CCF172B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Big Four”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This photograph shows the Big Four"/>
          <p:cNvPicPr/>
          <p:nvPr/>
        </p:nvPicPr>
        <p:blipFill>
          <a:blip r:embed="rId1"/>
          <a:stretch/>
        </p:blipFill>
        <p:spPr>
          <a:xfrm>
            <a:off x="2819520" y="1295280"/>
            <a:ext cx="56386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3572-B553-476C-9A79-5DFCC481E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1" name="" descr="Versailles The Hall of Mirrors ( La Galerie des Glaces )"/>
          <p:cNvPicPr/>
          <p:nvPr/>
        </p:nvPicPr>
        <p:blipFill>
          <a:blip r:embed="rId1"/>
          <a:stretch/>
        </p:blipFill>
        <p:spPr>
          <a:xfrm>
            <a:off x="4572000" y="3048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686480" cy="3441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58D5-F13C-404B-9DA4-C36AD5DDEF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Treaty of Versailles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stablished 9 new nations including Pola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militarized Germany; reduced military force to 100,00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ermany to pay reparations (war damages) $33B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4.  war-guilt claus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ermany held responsible for WWI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1279-C97C-4180-A346-09E7137A8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Problems with the Treaty = WWII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ermans felt they were treated unfairly; reparations unrealisti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ussia not included in treaty; fought for 3 yrs; lost more territory than Germa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3.  Colonial territories wanted independence; Germany’s colonies stripped in Pacifi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D93A-81DD-4883-9870-75226C2144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Opposition to Treaty </a:t>
            </a:r>
            <a:br>
              <a:rPr sz="4400"/>
            </a:b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at Hom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.  League of Nations (LN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elt it would involve US in foreign wa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S would have to form foreign policy based on LN membership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2. Senate never ratifies treaty or becomes a member of the L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E485-341F-40B2-8E55-D887DE033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The War’s Legacy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ermans never knew they lost war due to censorshi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conomic collapse; Germany’s currency had no valu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itler emerging as a leader; blames Jews for Germany’s situ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mericans want to stay out of foreign affai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478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Image:Inflation-19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447920"/>
            <a:ext cx="3432240" cy="4687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3CEB-1B22-454C-AF99-DEFF7CFBA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europe"/>
          <p:cNvPicPr/>
          <p:nvPr/>
        </p:nvPicPr>
        <p:blipFill>
          <a:blip r:embed="rId1"/>
          <a:stretch/>
        </p:blipFill>
        <p:spPr>
          <a:xfrm>
            <a:off x="2286000" y="838080"/>
            <a:ext cx="6191280" cy="547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D398-4DD4-4EAD-B045-008ADE1FC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06:24:13Z</dcterms:created>
  <dc:creator>School District U46</dc:creator>
  <dc:description/>
  <dc:language>en-US</dc:language>
  <cp:lastModifiedBy>School District U46</cp:lastModifiedBy>
  <dcterms:modified xsi:type="dcterms:W3CDTF">2010-11-17T16:17:14Z</dcterms:modified>
  <cp:revision>7</cp:revision>
  <dc:subject/>
  <dc:title>11.4 Wilson fights for Peace</dc:title>
</cp:coreProperties>
</file>